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ACEE-13A0-46BA-924D-055745A9D4C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Responsabilità del servizio di Prevenzione e Protezione è affidata all’esterno a TECNOCAMERE Società di Consulenza Tecnica del Sistema Came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4030-F71D-4F93-9DC5-1611C8B9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7CC-64DF-4B29-B068-565C9625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B321-24DF-43FB-9D1D-ED9027AC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6AC-3FDD-41AF-888E-B9433624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E150-6F91-468F-BE4A-EC674EC9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8AC7-4A7F-4BDD-87E2-1EF06A73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1D64-E3EC-456D-A847-BEAF679F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4B39-6E26-4914-A2DC-40E64EBF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911C-B9F9-4A7A-A973-DF5F0964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BB9F-4B19-455E-A7AA-D0AD740D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B026-DFCE-4F0B-A2CB-E6B6D895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43D-1E5A-4CBA-BB2F-B1A140C4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1E6C-6B90-4A8D-B40B-11136AAA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BF37-B050-4883-938B-1F31063B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D4B3-C056-4E63-94A4-CA066688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A46B-948C-40D2-ABF4-FCCF374E5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13A8-450D-42BE-A763-10E8C7F4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861-CD6D-4060-B8A5-0B08C018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D621-5810-40CD-8DC1-FB4ABC85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36E0-FC07-41D5-ABDB-74683A14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B08-90F6-46EC-A4D2-37B6BD67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DB7F-F878-4797-9A2B-6BFF750D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6541-9EDA-43BD-8032-3C32C2AF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1597-0FA9-42F8-9EBE-52CBAC38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6040-9516-410E-AA6E-1ACA606CE101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DA58-0278-48F5-A284-5EC7AFD42601}" type="slidenum">
              <a:rPr b="0" lang="en-US" sz="14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74311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LA GESTIONE DELLA SICUREZZA SUI LUOGHI DI LAVORO: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SPETTI TECNICI E TESTIMONIANZ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31640" y="3500280"/>
            <a:ext cx="684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Un’esperienza in tema di organizzazione della sicurezza in un Ente Pubblico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759960" y="5734080"/>
            <a:ext cx="799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Tahoma"/>
              </a:rPr>
              <a:t>Avv. Mario Esti – Dirigente C.C.I.A.A. di Napoli – Area Gestione del Personale e della Sicurezza del lavo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89856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l SP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Servizio di Prevenzione e Protezione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Datore di Lavoro: Avv. Mario Est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RSPP Esterno: Geom. Piero Lova (TECNOCAMERE SCpA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Addetto Esterno: Ing. Giuseppe Tammaro (TECNOCAMERE SCpA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Medico Comp.: Dott. Paolo Chiarolanza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N.2 RLS:  Giovanna Cuppone, Carmela Albig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Sedi: 3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Attività: Uffici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N.ro Lavoratori: circa 14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N.ro Addetti Antincendio: 5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N.ro Addetti Primo Soccorso: 50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812000" y="549360"/>
            <a:ext cx="770040" cy="761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AD3-FEBF-471F-8E19-F2FC4C53322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Interventi nella SEDE di Via S.Aspreno (P.zza G.Bovio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stallazione di strisce antiscivolo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stallazione di corrimano ad altezza 1 metro lungo la balaustra interna del secondo piano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stallazione di impianto di allertamento in caso di incendio/evacuazione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stallazione di illuminazione di emergenza, cartellonistica di sicurezza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740720" y="1268280"/>
            <a:ext cx="911160" cy="90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67CE-791B-44D2-BA03-B5D17917167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ifiche e misurazion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Rilevazioni fonometriche nel salone sportelli pubblico del Registro delle Imprese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Verifiche impianti di terra ai sensi del DPR 462/01 (ultima, in CORSO)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08520" indent="-3085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Rilevazione del gas RADON ai sensi del DLgs 241/00 in “Attuazione della direttiva 96/29/EURATOM in materia di protezione sanitaria della popolazione e dei lavoratori contro i rischi derivanti dalle radiazioni ionizzanti”.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812000" y="549360"/>
            <a:ext cx="838440" cy="83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F66-65B9-4781-890B-BA49514FDB2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ormazi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 tutti i lavorator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60360" y="2903400"/>
            <a:ext cx="2032200" cy="2901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780000" y="2924280"/>
            <a:ext cx="2036520" cy="2882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300720" y="2933640"/>
            <a:ext cx="1932120" cy="2871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>
            <a:lum bright="-18000"/>
          </a:blip>
          <a:stretch/>
        </p:blipFill>
        <p:spPr>
          <a:xfrm>
            <a:off x="7740720" y="549360"/>
            <a:ext cx="911160" cy="90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D75F-515F-4422-9C36-1AC5F1D07DC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zi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rso di formazione per addetti antincendio Rischio Medio – ai sensi del DM 10 marzo 2008 (settembre 2007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rso di formazione per addetti Primo Soccorso – ai sensi del DM 388/2003 (ottobre 2007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885080" y="549360"/>
            <a:ext cx="766800" cy="76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BB60-A641-4EAD-9C1E-BC1AEC898D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amma 200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Corso di formazione per tutti i lavorator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Corso di formazione per dirigenti e capiserviz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ahoma"/>
              </a:rPr>
              <a:t>Prove di evacuazione edific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812000" y="655560"/>
            <a:ext cx="765360" cy="7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BA0E-B154-423B-97BC-BFF31CE5634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86920" y="1555560"/>
            <a:ext cx="66978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Tahoma"/>
              </a:rPr>
              <a:t>Grazie per l’attenzion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Avv. Mario Est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ahoma"/>
              </a:rPr>
              <a:t>Dirigente Area Personale e Sicurezza sul Lavoro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99"/>
                </a:solidFill>
                <a:latin typeface="Tahoma"/>
              </a:rPr>
              <a:t>mario.esti@nap.camcom.it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7812000" y="655560"/>
            <a:ext cx="765360" cy="75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90C-A0E2-45C3-9A11-A7A32BE107A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1 gennaio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8:39:03Z</dcterms:created>
  <dc:creator>Giuseppe Tammaro</dc:creator>
  <dc:description/>
  <dc:language>en-US</dc:language>
  <cp:lastModifiedBy>Eventi</cp:lastModifiedBy>
  <dcterms:modified xsi:type="dcterms:W3CDTF">2010-01-21T06:23:46Z</dcterms:modified>
  <cp:revision>10</cp:revision>
  <dc:subject/>
  <dc:title>LA GESTIONE DELLA SICUREZZA SUI LUOGHI DI LAVORO: ASPETTI TECNICI E TESTIMONIANZE</dc:title>
</cp:coreProperties>
</file>